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2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771A-E4E9-4E25-92EB-834DE88EBE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050-D925-4661-8BC9-B42B55B46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EE7-D29F-401D-A29D-0DA2C21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F95-E3C4-4B58-82B2-EE1B146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8FF-B06A-4D2C-8813-97AD245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ED2-71A1-4CB3-8970-9AE08737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D1C-062D-45C6-8817-8DED5D36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C0E-F860-44F1-AD8A-23D4A3D5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3AE-A39D-4120-A071-47DECEB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B57-AD9C-4601-A4B5-10928D0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B27C-54C5-47AD-9F20-E58DF046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83E5-3076-4CD9-8CAD-1CC0AFE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B251-A7A1-4C92-B195-30E361E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9E4-FFD4-402A-83E4-58948E6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72BA-525D-4A31-A40E-9E0CA05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D30-25A1-431C-8277-BAA26D1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8D36-412F-4808-B017-16671F9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8BD3-0F0E-41F2-89A4-1327257C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248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248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964320"/>
            <a:ext cx="245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4B9-2C16-47E4-AD74-B1A451CD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45C-338D-4543-B1FD-1DAD818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5A3-4E26-4A1F-826B-29A322B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FE2-BBA9-4B70-8178-216C029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640" y="27432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670-776B-46F8-B3F5-0BC61D04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581-DB71-461E-8CCF-AAC6FBC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3040" y="396432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6EC-00DF-48AD-93A6-533C167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3040" y="1600200"/>
            <a:ext cx="372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6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494-3610-4E73-80C4-A948E7D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65_5187"/>
          <p:cNvPicPr/>
          <p:nvPr/>
        </p:nvPicPr>
        <p:blipFill>
          <a:blip r:embed="rId2"/>
          <a:srcRect l="35434" t="0" r="40158" b="0"/>
          <a:stretch/>
        </p:blipFill>
        <p:spPr>
          <a:xfrm>
            <a:off x="-36360" y="0"/>
            <a:ext cx="1487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977-59EF-4F8E-B988-23B7C7795340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5" name="Полилиния 11"/>
          <p:cNvSpPr/>
          <p:nvPr/>
        </p:nvSpPr>
        <p:spPr>
          <a:xfrm>
            <a:off x="971640" y="-230040"/>
            <a:ext cx="1008000" cy="7316640"/>
          </a:xfrm>
          <a:custGeom>
            <a:avLst/>
            <a:gdLst/>
            <a:ahLst/>
            <a:rect l="l" t="t" r="r" b="b"/>
            <a:pathLst>
              <a:path w="635" h="4672">
                <a:moveTo>
                  <a:pt x="317" y="159"/>
                </a:moveTo>
                <a:cubicBezTo>
                  <a:pt x="211" y="318"/>
                  <a:pt x="0" y="1928"/>
                  <a:pt x="0" y="2654"/>
                </a:cubicBezTo>
                <a:cubicBezTo>
                  <a:pt x="0" y="3380"/>
                  <a:pt x="211" y="4672"/>
                  <a:pt x="317" y="4513"/>
                </a:cubicBezTo>
                <a:cubicBezTo>
                  <a:pt x="423" y="4354"/>
                  <a:pt x="635" y="2427"/>
                  <a:pt x="635" y="1701"/>
                </a:cubicBezTo>
                <a:cubicBezTo>
                  <a:pt x="635" y="975"/>
                  <a:pt x="423" y="0"/>
                  <a:pt x="317" y="1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4c8aa36f7131"/>
          <p:cNvPicPr/>
          <p:nvPr/>
        </p:nvPicPr>
        <p:blipFill>
          <a:blip r:embed="rId2"/>
          <a:stretch/>
        </p:blipFill>
        <p:spPr>
          <a:xfrm>
            <a:off x="2411280" y="1989000"/>
            <a:ext cx="4235760" cy="360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7129440" cy="114300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ED6E-61BA-4EA9-8786-98C812BAC589}" type="slidenum">
              <a:rPr b="0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3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3.xml"/><Relationship Id="rId12" Type="http://schemas.openxmlformats.org/officeDocument/2006/relationships/slide" Target="slide44.xml"/><Relationship Id="rId13" Type="http://schemas.openxmlformats.org/officeDocument/2006/relationships/slide" Target="slide43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slide" Target="slide44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3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3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3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3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3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slide" Target="slide43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3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3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3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4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3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44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4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4.xml"/><Relationship Id="rId16" Type="http://schemas.openxmlformats.org/officeDocument/2006/relationships/slide" Target="slide43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4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44.xml"/><Relationship Id="rId12" Type="http://schemas.openxmlformats.org/officeDocument/2006/relationships/slide" Target="slide43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Подготовка к ЕГЭ</a:t>
            </a: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Calibri"/>
              </a:rPr>
              <a:t>(Человек)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3" name="Нижний колонтитул 1"/>
          <p:cNvSpPr/>
          <p:nvPr/>
        </p:nvSpPr>
        <p:spPr>
          <a:xfrm>
            <a:off x="539640" y="6245280"/>
            <a:ext cx="81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вка Н.В., учитель истории и обществознания МОУ "Февральская СОШ № 1", 2010г.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avkan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187280" y="189000"/>
            <a:ext cx="7777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1. Природа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Это врожденная биопсихическая конституция, общая для всех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Есть не что иное, как совокупность его базовых потре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ставляет собой основные и неизменные качества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Это совокупность таких качеств, как разум, совесть, долг, дар об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2. К потребностям человека, обусловленным обществом, относится потребнос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рудов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хранении 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амосохран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физической а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3. Отличительным признаком понятия «личность» является (-ю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членораздельная 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сознание и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пособность брать ответственность на себ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наличие физических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4. Верны ли следующие суждения о самопознан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Идеальное «Я» — это представление о том, каким хотят меня видеть окружающ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Неотъемлемой частью самопознания служит самооц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оба суждения 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258920" y="189000"/>
            <a:ext cx="7777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5. Основным фактором формирования личности я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родная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ение с окружающ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еханизм наслед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рожденные скло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6. Личность –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человек, живущий в обществе и обладающий системой социально значимых черт, свойств и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емперамент человека, его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неповторимые психофизиологические особенност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овокупность оригинальных человечески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7. Верны ли следующие суждения о выделении человека из прир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Выделение человека из природы произошло благодаря наличию у него сознания  и раз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Выделение человека из природы произошло благодаря наличию у не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определённого набора инстин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рно и А, и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116000" y="189000"/>
            <a:ext cx="7920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8. Понятие «индивидуальность» фиксир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единичного представителя человеческого 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обенности темперамента человека, его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трудовую активность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еповторимое оригинальное своеобразие человека, подразумевая не только его внешний облик, но и совокупность социально значимых кач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9. Ориентирами человеческой деятельност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ц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л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тре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интере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0. Верны ли следующие суждения о формировании преемственности в поведении  челове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Функции врождённых инстинктов, свойственные животным, у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заменяются нормами (правил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Своеобразной программой поведения человека выступает куль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рно и А, и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1. Какой признак характеризует человека как личнос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активная жизненная пози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изическое и психическ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ринадлежность в виду homo sapi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особенности внеш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187280" y="115920"/>
            <a:ext cx="784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2. «Индивидуальность – неповторимое своеобразие человека, набор его уникальных  свойств». Данное утверждение является приме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художественного обр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ифологического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игиозной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учного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3. Свойства и роли человека, которые он приобретает только во взаимодействии с  другими людьми, характеризуют его к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инди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индивиду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рган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4. Общее в деятельности изобретателей, писателей, художников то, что она я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административ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ракти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матери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твор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5. И человеку, и животному свойственны потребност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саморе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амосохран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самопозн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самообраз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187280" y="260280"/>
            <a:ext cx="7777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6. Человек в отличие от животного способ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вершать привычные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едварительно обдумывать своё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оявлять 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ботиться о потом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7. В отличие от животного человек способ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агировать с помощью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ырабатывать условные рефлек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удовлетворять потре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гнозировать результаты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8. К социальным потребностям человека относится потре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д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ит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п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общ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49. Научные открытия представляют собой результат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материально-производ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оциально-пре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ракти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духов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203480" y="692280"/>
            <a:ext cx="7921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0. Игра, учение, труд выступают в кач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ритериев ист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идов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циальны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ологических потре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1. Укажите один из признаков человеческой деятельности, отличающий её от поведения живот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оявление а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целеполаг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риспособление к среде об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заимодействие с окружающим ми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2. Как называется процесс, в котором человек постигает сущность своего «я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ам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самопозн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амосох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олюб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3. Результатом самопознания, в частности, я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накопление знаний о человека и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познание ценностей 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изучение социальны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редставление о своих способно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258920" y="189000"/>
            <a:ext cx="7705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4. Процесс самопознания включает накопление знаний об особенно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бственной внеш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азличных типов темпера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ральных и правовы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заимодействия человека и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5. Утверждение, что человек является продуктом и субъектом общественно-исторической деятельности, является характеристикой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оциальной су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биологической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физиологических особе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сихологически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6. Человек представляет собой единство трёх составляющих: биологической,  психологической и социальной. Социальная составляющая включ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знания и ум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чувства и во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физическое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возрастные 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7. Верны ли следующие суждения о лич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Личность – продукт биологической эволю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Максимальное влияние на личность оказывает обще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верны оба 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112760" y="16992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8. Верны ли следующие суждения о связи деятельности и общ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Общение – это сторона любой совместной деятельности, посколь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деятельность предполагает взаимо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Общение – это особая деятельность, основанная на обмене знаниями, идеями,   действ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ы оба 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59. Основой человеческого существования я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треб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юб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друж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60. Активность человека, имеющая нравственный или безнравственный смысл,  н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показух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овед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амо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презент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403280" y="404640"/>
            <a:ext cx="7561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61. Воля –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ласть над собой, управление своими действиями, сознательное регулирование свое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пособность дать сдачи обидчи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мение выступать принципиально против любой точки зрения, кроме сво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пособность к самой опасной и жестокой борь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62. Высший нравственный смысл человеческой деятельности прида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амоот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материальная вы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дость за совершё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наслаждение мастер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129440" cy="83664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Часть В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8000" y="765000"/>
            <a:ext cx="813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.    Завершите фразу: «Характерное для человека проявление активности, выражающееся в преобразовании внутреннего и внешнего мира, —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.    Какому понятию соответствует следующее определ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«Психические свойства, которые являются условиями успешного выполнения какой-либо одной или нескольких видов деятельнос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З.    Установите соответствие между приведенными в первом столбце определениями и приведенными во втором столбце понят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19280" y="3141720"/>
          <a:ext cx="5180040" cy="1376280"/>
        </p:xfrm>
        <a:graphic>
          <a:graphicData uri="http://schemas.openxmlformats.org/drawingml/2006/table">
            <a:tbl>
              <a:tblPr/>
              <a:tblGrid>
                <a:gridCol w="3494160"/>
                <a:gridCol w="1685880"/>
              </a:tblGrid>
              <a:tr h="237960">
                <a:tc>
                  <a:txBody>
                    <a:bodyPr lIns="25560" rIns="25560" tIns="0" bIns="0" anchor="t">
                      <a:noAutofit/>
                    </a:bodyPr>
                    <a:p>
                      <a:pPr marL="1103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0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Человек, активно осваивающий и целенаправ­ленно преобразующий природу, общество и себ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Индивидуа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тдельно взятый представитель человеческого р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Инди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повторимое своеобразие человека, набор его индивидуальных свой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Л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1116000" y="4581360"/>
            <a:ext cx="79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24000" y="5103720"/>
          <a:ext cx="5170680" cy="563760"/>
        </p:xfrm>
        <a:graphic>
          <a:graphicData uri="http://schemas.openxmlformats.org/drawingml/2006/table">
            <a:tbl>
              <a:tblPr/>
              <a:tblGrid>
                <a:gridCol w="1293840"/>
                <a:gridCol w="1289160"/>
                <a:gridCol w="1289160"/>
                <a:gridCol w="1298520"/>
              </a:tblGrid>
              <a:tr h="274680">
                <a:tc>
                  <a:txBody>
                    <a:bodyPr lIns="25560" rIns="25560" tIns="0" bIns="0" anchor="t">
                      <a:noAutofit/>
                    </a:bodyPr>
                    <a:p>
                      <a:pPr marL="531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20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5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5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6"/>
          <p:cNvSpPr/>
          <p:nvPr/>
        </p:nvSpPr>
        <p:spPr>
          <a:xfrm>
            <a:off x="1258920" y="58770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7129440" cy="7063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Часть А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55520" y="620640"/>
            <a:ext cx="8064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1. Индивидуальность –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специфические черты, присущие человеку как биологическому орган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темперамент человека, его харак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неповторимое своеобразие как природного, так и общественного в человек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совокупность человеческих потребностей и спосо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2. Признаком, отличающим человека от животного, я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) проявление актив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) целеполаг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) приспособление к среде обит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) взаимодействие с окружающим мир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3. Верны ли следующие суждения о жизни человека в обществ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В человеке самой природой заложено умение жить в общ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. Личность может формироваться только в человеческом общ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) верно только 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верно только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) верны оба суж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) 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4. Результаты производственной, общественной и духовной  деятельности человека и общества в совокупности можно наз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) куль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экономи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мировоззрени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) исто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258920" y="7776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4.   Восполните пробел в приведенной ниже сх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708360" y="415800"/>
            <a:ext cx="2303640" cy="420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6078600" y="1986120"/>
            <a:ext cx="2305080" cy="42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ст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732720" y="1085760"/>
            <a:ext cx="230328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558800" y="1700280"/>
            <a:ext cx="2303640" cy="42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зистенц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971640" y="1025640"/>
            <a:ext cx="2305080" cy="42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3579840" y="2492280"/>
            <a:ext cx="2305080" cy="420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2"/>
          <p:cNvCxnSpPr>
            <a:stCxn id="137" idx="1"/>
            <a:endCxn id="141" idx="0"/>
          </p:cNvCxnSpPr>
          <p:nvPr/>
        </p:nvCxnSpPr>
        <p:spPr>
          <a:xfrm flipH="1">
            <a:off x="2123280" y="626760"/>
            <a:ext cx="1585080" cy="399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4" name="Прямая со стрелкой 14"/>
          <p:cNvCxnSpPr>
            <a:stCxn id="137" idx="3"/>
          </p:cNvCxnSpPr>
          <p:nvPr/>
        </p:nvCxnSpPr>
        <p:spPr>
          <a:xfrm>
            <a:off x="6012000" y="626760"/>
            <a:ext cx="1762560" cy="399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5" name="Прямая со стрелкой 16"/>
          <p:cNvCxnSpPr>
            <a:stCxn id="137" idx="2"/>
          </p:cNvCxnSpPr>
          <p:nvPr/>
        </p:nvCxnSpPr>
        <p:spPr>
          <a:xfrm flipH="1">
            <a:off x="3202920" y="836280"/>
            <a:ext cx="1656360" cy="864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6" name="Прямая со стрелкой 20"/>
          <p:cNvCxnSpPr/>
          <p:nvPr/>
        </p:nvCxnSpPr>
        <p:spPr>
          <a:xfrm flipH="1">
            <a:off x="4731840" y="878040"/>
            <a:ext cx="100800" cy="16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7" name="Прямая со стрелкой 22"/>
          <p:cNvCxnSpPr>
            <a:stCxn id="137" idx="2"/>
          </p:cNvCxnSpPr>
          <p:nvPr/>
        </p:nvCxnSpPr>
        <p:spPr>
          <a:xfrm>
            <a:off x="4858920" y="836280"/>
            <a:ext cx="1724760" cy="1152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8" name="TextBox 26"/>
          <p:cNvSpPr/>
          <p:nvPr/>
        </p:nvSpPr>
        <p:spPr>
          <a:xfrm>
            <a:off x="1116000" y="3141720"/>
            <a:ext cx="7632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5.    Завершите фразу: «Осознанный образ результата, на достижение которого направлена деятельность, это ___________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6.    Найдите в приведенном ниже списке свойства человека, раскрывающие его социальную при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Способность к совместной преобраз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Стремление к саморе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мение приспосабливаться к природ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Устойчивые взгляды на мир и свое место в н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Потребность в воде, пище, отды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Способность к самосохран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403280" y="115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7.    Установите соответствие между типами потребностей человека, данными в первом столбце, и примерами их проявлений — во вт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24000" y="701640"/>
          <a:ext cx="5165640" cy="905040"/>
        </p:xfrm>
        <a:graphic>
          <a:graphicData uri="http://schemas.openxmlformats.org/drawingml/2006/table">
            <a:tbl>
              <a:tblPr/>
              <a:tblGrid>
                <a:gridCol w="2578320"/>
                <a:gridCol w="2587320"/>
              </a:tblGrid>
              <a:tr h="233280">
                <a:tc>
                  <a:txBody>
                    <a:bodyPr lIns="25560" rIns="25560" tIns="0" bIns="0" anchor="t">
                      <a:noAutofit/>
                    </a:bodyPr>
                    <a:p>
                      <a:pPr marL="473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77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25560" rIns="25560" tIns="0" bIns="0" anchor="t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циальные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Иметь хорошую сем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уховные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Иметь добрую славу о с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3640"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атериальные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Иметь удобное жил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3"/>
          <p:cNvSpPr/>
          <p:nvPr/>
        </p:nvSpPr>
        <p:spPr>
          <a:xfrm>
            <a:off x="1403280" y="17002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50920" y="2214720"/>
          <a:ext cx="5167440" cy="506160"/>
        </p:xfrm>
        <a:graphic>
          <a:graphicData uri="http://schemas.openxmlformats.org/drawingml/2006/table">
            <a:tbl>
              <a:tblPr/>
              <a:tblGrid>
                <a:gridCol w="1724040"/>
                <a:gridCol w="1714680"/>
                <a:gridCol w="1728720"/>
              </a:tblGrid>
              <a:tr h="250560">
                <a:tc>
                  <a:txBody>
                    <a:bodyPr lIns="25560" rIns="25560" tIns="0" bIns="0" anchor="t">
                      <a:noAutofit/>
                    </a:bodyPr>
                    <a:p>
                      <a:pPr marL="74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30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28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5"/>
          <p:cNvSpPr/>
          <p:nvPr/>
        </p:nvSpPr>
        <p:spPr>
          <a:xfrm>
            <a:off x="1432080" y="279864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03280" y="3357720"/>
            <a:ext cx="741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8.    Бригада строителей возводит жилой объект. Найдите в приведенном списке субъекты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лот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Каменщ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Строящийся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Крановщ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Подъемные к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Правила техники без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Строительн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187280" y="115920"/>
            <a:ext cx="777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9.    Установите соответствие между двумя списками, в одном из которых названы основные функции общения, а в другом они описаны. Отметьте в приведенном ниже списке отличительные характеристик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50920" y="957240"/>
          <a:ext cx="5167440" cy="1463760"/>
        </p:xfrm>
        <a:graphic>
          <a:graphicData uri="http://schemas.openxmlformats.org/drawingml/2006/table">
            <a:tbl>
              <a:tblPr/>
              <a:tblGrid>
                <a:gridCol w="2968920"/>
                <a:gridCol w="2198520"/>
              </a:tblGrid>
              <a:tr h="314280">
                <a:tc>
                  <a:txBody>
                    <a:bodyPr lIns="25560" rIns="25560" tIns="0" bIns="0" anchor="t">
                      <a:noAutofit/>
                    </a:bodyPr>
                    <a:p>
                      <a:pPr marL="550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ОБ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25560" rIns="25560" tIns="0" bIns="0" anchor="t">
                      <a:noAutofit/>
                    </a:bodyPr>
                    <a:p>
                      <a:pPr marL="1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ация совмест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Коммуникатив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мен информац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Функция взаимо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осприятие друг друга и установле­ние взаимопони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Функция межличностного по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Прямая соединительная линия 4"/>
          <p:cNvSpPr/>
          <p:nvPr/>
        </p:nvSpPr>
        <p:spPr>
          <a:xfrm>
            <a:off x="2050920" y="2421000"/>
            <a:ext cx="51134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187280" y="249228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98720" y="3027240"/>
          <a:ext cx="5165640" cy="511200"/>
        </p:xfrm>
        <a:graphic>
          <a:graphicData uri="http://schemas.openxmlformats.org/drawingml/2006/table">
            <a:tbl>
              <a:tblPr/>
              <a:tblGrid>
                <a:gridCol w="1724040"/>
                <a:gridCol w="1717560"/>
                <a:gridCol w="1724040"/>
              </a:tblGrid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 marL="749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3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28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TextBox 7"/>
          <p:cNvSpPr/>
          <p:nvPr/>
        </p:nvSpPr>
        <p:spPr>
          <a:xfrm>
            <a:off x="1187280" y="3645000"/>
            <a:ext cx="7777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0. Ниже приведены характеристики общения как диалога, но допущены ошибки. Исключите их из сп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Равноправие партн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Активность каждого учас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Уважение к мнению собес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Готовность к взаимопоним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Стремление во что бы то ни стало переубедить с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Высокомер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) Незнание имени собес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16000" y="189000"/>
            <a:ext cx="784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1. Найдите в приведенном ниже списке черты, свойственные только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Доступность для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Уника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Практическая знач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оспроизводимость образ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Принципиальная новиз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2. Установите соответствие между видами деятельности, данными в первом столбце, и их характеристиками, данными во вт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92360" y="2743200"/>
          <a:ext cx="5165640" cy="1566720"/>
        </p:xfrm>
        <a:graphic>
          <a:graphicData uri="http://schemas.openxmlformats.org/drawingml/2006/table">
            <a:tbl>
              <a:tblPr/>
              <a:tblGrid>
                <a:gridCol w="3254400"/>
                <a:gridCol w="1911240"/>
              </a:tblGrid>
              <a:tr h="274680">
                <a:tc>
                  <a:txBody>
                    <a:bodyPr lIns="25560" rIns="25560" tIns="0" bIns="0" anchor="t">
                      <a:noAutofit/>
                    </a:bodyPr>
                    <a:p>
                      <a:pPr marL="817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 marL="1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ятельность в воображаемой ситу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Тр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актическая полез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целенность на получение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мещение реальных объектов услов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25560" rIns="25560" tIns="0" bIns="0" anchor="t">
                      <a:noAutofit/>
                    </a:bodyPr>
                    <a:p>
                      <a:pPr marL="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еобразовательная направл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TextBox 3"/>
          <p:cNvSpPr/>
          <p:nvPr/>
        </p:nvSpPr>
        <p:spPr>
          <a:xfrm>
            <a:off x="1116000" y="44370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835280" y="4979880"/>
          <a:ext cx="5162400" cy="406440"/>
        </p:xfrm>
        <a:graphic>
          <a:graphicData uri="http://schemas.openxmlformats.org/drawingml/2006/table">
            <a:tbl>
              <a:tblPr/>
              <a:tblGrid>
                <a:gridCol w="1038240"/>
                <a:gridCol w="1028520"/>
                <a:gridCol w="1028880"/>
                <a:gridCol w="1028520"/>
                <a:gridCol w="1038240"/>
              </a:tblGrid>
              <a:tr h="201600">
                <a:tc>
                  <a:txBody>
                    <a:bodyPr lIns="25560" rIns="25560" tIns="0" bIns="0" anchor="t">
                      <a:noAutofit/>
                    </a:bodyPr>
                    <a:p>
                      <a:pPr marL="403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0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7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5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0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5"/>
          <p:cNvSpPr/>
          <p:nvPr/>
        </p:nvSpPr>
        <p:spPr>
          <a:xfrm>
            <a:off x="1122480" y="566100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187280" y="115920"/>
            <a:ext cx="784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В13. Завершите фраз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«В основе потребностей человека лежат .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: _____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В14. Найдите в приведенном ниже списке отличительные  характеристик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существо биологическо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знательно выдвигает цели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живет среди себе подоб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обладает способностью к творчеств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производит орудия труда с помощью других оруд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) обладает врожденными инстинктами самосохран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фры в ответе запишите в порядке возрас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: 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В15. Установите соответствие между видами потребностей человека  и их конкретными примерами: к каждой позиции, данной в  первом столбце, подберите соответствующую позицию из  второго столб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19280" y="3429000"/>
          <a:ext cx="6078600" cy="914400"/>
        </p:xfrm>
        <a:graphic>
          <a:graphicData uri="http://schemas.openxmlformats.org/drawingml/2006/table">
            <a:tbl>
              <a:tblPr/>
              <a:tblGrid>
                <a:gridCol w="3040200"/>
                <a:gridCol w="30384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 потре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отре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ищ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оциальные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рестиж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об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биологические 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сон и отд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2" name="TextBox 3"/>
          <p:cNvSpPr/>
          <p:nvPr/>
        </p:nvSpPr>
        <p:spPr>
          <a:xfrm>
            <a:off x="1187280" y="450864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50920" y="5032440"/>
          <a:ext cx="5166000" cy="511200"/>
        </p:xfrm>
        <a:graphic>
          <a:graphicData uri="http://schemas.openxmlformats.org/drawingml/2006/table">
            <a:tbl>
              <a:tblPr/>
              <a:tblGrid>
                <a:gridCol w="1290600"/>
                <a:gridCol w="1292400"/>
                <a:gridCol w="1290600"/>
                <a:gridCol w="1292400"/>
              </a:tblGrid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TextBox 5"/>
          <p:cNvSpPr/>
          <p:nvPr/>
        </p:nvSpPr>
        <p:spPr>
          <a:xfrm>
            <a:off x="1187280" y="5805360"/>
            <a:ext cx="51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ет: 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1187280" y="189000"/>
            <a:ext cx="79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6. Установите соответствие между видами деятельности и  особенностями их проявления: к каждой позиции, данной в  первом столбце, подберите соответствующую позицию из  второго столб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Объект 2" descr=""/>
          <p:cNvPicPr/>
          <p:nvPr/>
        </p:nvPicPr>
        <p:blipFill>
          <a:blip r:embed="rId1"/>
          <a:stretch/>
        </p:blipFill>
        <p:spPr>
          <a:xfrm>
            <a:off x="1476360" y="1033560"/>
            <a:ext cx="6983280" cy="1089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187280" y="206064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1476360" y="2595600"/>
            <a:ext cx="6900840" cy="696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1187280" y="3213000"/>
            <a:ext cx="7777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7. Социальными характеристиками человека обусловлены его потребности … (Обведите цифры, под которыми указаны верные  пози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трудов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о с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отды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 созид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в п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в социальной а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в возду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) в в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) в общении с другими люд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ведённые цифры запишите в порядке возрас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332000" y="476280"/>
            <a:ext cx="770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В18. Назовите понятие, соответствующее опреде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 - это человек как носитель сознания, наделённый рядом важных социальных свойств: способностью обучаться,  трудиться, общаться с себе подобными, участвовать в жизни  общества, иметь духовные интересы, испытывать сложные  чувств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19. Назовите понятие, соответствующее опреде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 - это самые простые заученные движения,  выполнение которых не требует специальных усилий, например, бытовые действия: застёгивание пуговиц, причёсывание,  шитьё, действия ножом и вилкой за едой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0. Назовите понятие, соответствующее опреде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е использование целых систем освоенных  человеком навыков, сознательная группировка их в определённой последовательности, оценка результатов  действий, способы действий - 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1. Вставьте слова вместо пропус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ки антропология, анатомия, физиология, биохимия и т.д. изучают человека как ____________ (1) организм. Человек как  ______________ (2), как субъект _______________ (3) жизни –  предмет изучения психологии, философии, социологии, этики, педагогики, правоведения и других на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1 _________________, 2 ________________, 3 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258920" y="765000"/>
            <a:ext cx="7777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2. Назовите понятие, соответствующее опреде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четание способностей, которое обеспечивает возможность творческого выполнения какой-либо деятельности, называется  _______________ к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3. Вставьте слова вместо пропус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вы думаете, что Л.Н. Толстой считал проявлениями страха перед своей совестью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пья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ку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бол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4. Назовите понятие, соответствующее опреде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 - это акт нравственной деятельности, нравственного поиска, который выражается в сознательном  предпочтении определённой системы жизненных ценностей,  линии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5. «Зачем я живу? Какова цель моего существования? Как я должен жить, чтобы моё существование наполнилось достойным  содержанием?» Задавая себе эти вопросы, человек имеет в  виду 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1187280" y="115920"/>
            <a:ext cx="777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6. Немецкий психолог и педагог Э.Шпрангер (1882-1963) предложил типологию личности, включающую следующие типы:  религиозный, эстетический, политический, социальный, теоретический, экономиче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Установите соответствие характеристик и типов личностей,  подставив в таблицу к цифре из левой колонки букву из 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1255680" y="1557360"/>
            <a:ext cx="6983280" cy="2854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187280" y="436572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Объект 3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69836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1187280" y="551664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258920" y="11592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7. Установите соответствие между науками, в той или иной мере, в том или ином аспекте изучающими человека, и их кратким опис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1403280" y="701640"/>
            <a:ext cx="6983640" cy="23414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187280" y="29973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6983280" cy="5443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1258920" y="4221000"/>
            <a:ext cx="50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332000" y="620640"/>
            <a:ext cx="7632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5. Деятельность человека и поведение животного характеризу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выдвижением це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механизмом самоконтро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осознанным выбором средст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удовлетворением потре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6. Труд в отличие от об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) является потребностью челов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) может доставлять человеку удовольств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) непосредственно преобразует предметы 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) предполагает наличие ц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7. Верны ли следующие суждения о свободе челове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Свобода человека является синонимом вседозво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. Свобода человека невозможна в условиях общественных связей и взаимо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) Верно только 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Верно только Б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) Верны оба сужде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) Оба суждения неверн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8. К потребностям человека, обусловленным его биологи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природой, относятся потребности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   1) самосохране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самореализ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самопозна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) самообраз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1332000" y="115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8. Установите соответствие между некоторыми способностями и их проявлениями (результат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tretch/>
        </p:blipFill>
        <p:spPr>
          <a:xfrm>
            <a:off x="1476360" y="701640"/>
            <a:ext cx="6983280" cy="1265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1332000" y="1844640"/>
            <a:ext cx="75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в таблицу выбранные буквы, а затем получившуюся последовательность букв перенесите в бланк ответов (без пробелов и других символ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3" descr=""/>
          <p:cNvPicPr/>
          <p:nvPr/>
        </p:nvPicPr>
        <p:blipFill>
          <a:blip r:embed="rId2"/>
          <a:stretch/>
        </p:blipFill>
        <p:spPr>
          <a:xfrm>
            <a:off x="1403280" y="2368440"/>
            <a:ext cx="6983640" cy="5446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332000" y="292428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29. Какие существуют две основные оценочные точки зрения 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челове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птимис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синт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эконом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поли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пессимис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художестве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332000" y="115920"/>
            <a:ext cx="7632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30. Какие две основные стороны составляют сущность челове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класс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биологическая (природ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косм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соци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эконом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мистическая                               Ответ: 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31. Отметьте, какие понятия входят как составные части в  продуктивную человеческую деятель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неизм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бессознательные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бесц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следование инстин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сознательное изме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) целенаправ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) реализация себя.                      Ответ: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32. Выделите основные виды деятельности по содерж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бое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труд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игр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учеб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медицин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оммер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63640" y="274680"/>
            <a:ext cx="7129440" cy="922320"/>
          </a:xfrm>
          <a:prstGeom prst="rect">
            <a:avLst/>
          </a:prstGeom>
          <a:solidFill>
            <a:srgbClr val="ffffff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Часть С</a:t>
            </a:r>
            <a:endParaRPr b="1" lang="en-US" sz="4400" spc="-1" strike="noStrike">
              <a:solidFill>
                <a:srgbClr val="663300"/>
              </a:solidFill>
              <a:latin typeface="Calibri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1258920" y="1197000"/>
            <a:ext cx="7705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овите не менее трех особенностей человеческого организма, которые составляют биологическую основу деятельности человека как существа социаль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еловеческий ребенок в момент рождения, по меткому выражению А. Пьерона, не человек, а только «кандидат в человека». Объясните, что имел в виду А. Пьерон, называя ребенка «кандидатом в человека»? Сформулируйте три су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З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о, что поведение животного в своих главных чертах генетически запрограммировано. Многие же инстинкты человека в результате общественной истории оказались расшатаны и стерты. По выражению А. Пьерона, «человечество освободилось от деспотизма наследственности». В чем проявляется свобода человека от «деспотизма ответственности»? Сформулируйте не менее трех утвер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4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ройте логическую цепочку, основанную на высказывании русского публициста и критика В.Г. Белинского: «Без цели нет деятельности, без интересов нет цели, а без деятельности нет жиз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ясните, какую роль в жизни человека играют интересы, цели, деятельность? Какова связь между ни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204920" y="127080"/>
            <a:ext cx="7848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5.    Прочитайте текст и выполните задания к н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кажется, те, кого приводит в ужас развитие техники, не замечают разницы между средством и целью. ... машина не цель. Самолет — не цель, он всего лишь орудие. Такое же орудие, как и плуг. ... Упиваясь своими успехами, мы служили прогрессу — прокладывали железные дороги, строили заводы, бурили нефтяные скважины. И как-то забыли, что все это для того и создавалось, чтобы служить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же машина, становясь совершеннее, делает свое дело все скромней и незаметней. Кажется, будто все труды человека — создателя машин, все его расчеты, все бессонные ночи над чертежами только и проявляются во внешней простоте; словно нужен был опыт многих поколений, чтобы все стройней и чеканней становились колонна, киль корабля или фюзеляж самолета, пока не обрели наконец первозданную чистоту и плавность линий... Кажется, будто работа инженеров, чертежников, конструкторов к тому и сводится, чтобы шлифовать и сглаживать, чтобы облегчить и упростить механизм крепления, уравновесить крыло, сделать его незаметным — уже не крыло, прикрепленное к фюзеляжу, но некое совершенство форм, естественно развившееся из почки, таинственно слитное и гармоническое единство, которое сродни прекрасному стихотворению. Как видно, совершенство достигается не тогда, когда уже нечего прибавить, но когда уже ничего нельзя отнять. Машина на пределе своего развития — уже не машина. Итак, по изобретению, доведенному до совершенства, не видно, как оно создавалось. У простейших орудий труда мало-помалу стирались видимые признаки механизма, и в руках у нас оказывался предмет, будто созданный самой природой, словно галька, обточенная морем; тем же примечательна и машина — пользуясь ею, постепенно о ней забываеш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 де Сент-Экзюпери. Планета лю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187280" y="260280"/>
            <a:ext cx="77774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1) Найдите в тексте любые три примера преобразовательной деятельности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2) Укажите и проиллюстрируйте с помощью данного текста любые д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тличительные черты деятельности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3) Можно ли запечатленный в документе процесс труда людей по созданию машин считать творческим? Аргументируйте свой ответ с помощью текста. Дайте определение творче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4) Что является конечной целью преобразовательной деятельности человека, по мнению автора и по вашему мнению? Оба ответа обоснуй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6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нфликт между убеждениями и непосредственными интересами подстерегает человека на каждом шагу: убеждение в том, что нужно говорить правду, и нежелание обидеть человека; убеждение в том, что нужно прийти на помощь человеку, который подвергся нападению, и опасение, что, оказывая помощь, можешь пострадать са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Продолжите этот перечень. О каких типах конфликтов в данном случае идет речь? Те ли это конфликты, которых следует избегать? В чем вы видите проявление сознательного и бессознательного в данном приме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7.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то фон Бисмарк писал: «Свобода — это роскошь, которую не каждый может себе позволит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огласны ли вы с автором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ак соотносятся свобода и необходимость? Ответ подтвердите прим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042920" y="189000"/>
            <a:ext cx="7921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8. Выберите одно из предложенных ниже высказываний. В бла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ответов № 2 запишите полный номер выбранного вами задания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перепишите содержание высказывания, а затем дайт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развернутый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ложите свои мысли (свою точку зрения, отношение) по повод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ятой проблемы. В ответе следует использова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ие понятия обществоведческого курса и, опираяс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факты общественной жизни и собственный жизненный опыт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ести необходимые аргументы в обоснование своей 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 «Человек вне общества — или бог, или зверь». (Аристот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«Если у человека есть «зачем» жить, он может выдержать люб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ак». (Ф.Ницш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«Человек есть принципиальная новизна в природе». (Н.Бердя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«Человек – не вещь, а живое существо, которое  можно понять только в длительном процессе его развития. В любой миг своей жизни он еще не является тем, чем может  стать, и чем он, возможно, еще и станет» (Э. Фром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«Действия людей – лучшие переводчики их мыслей» (Джон Лок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«Мы должны всегда стараться отыскивать не то, что нас отделяет от других людей, а то, что у нас с ними общего» (Д.Реск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60600" y="692280"/>
          <a:ext cx="6972120" cy="5343480"/>
        </p:xfrm>
        <a:graphic>
          <a:graphicData uri="http://schemas.openxmlformats.org/drawingml/2006/table">
            <a:tbl>
              <a:tblPr/>
              <a:tblGrid>
                <a:gridCol w="3486240"/>
                <a:gridCol w="348588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Прямоуг. 3"/>
          <p:cNvSpPr/>
          <p:nvPr/>
        </p:nvSpPr>
        <p:spPr>
          <a:xfrm>
            <a:off x="1503360" y="187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476360" y="404640"/>
          <a:ext cx="7199280" cy="5977080"/>
        </p:xfrm>
        <a:graphic>
          <a:graphicData uri="http://schemas.openxmlformats.org/drawingml/2006/table">
            <a:tbl>
              <a:tblPr/>
              <a:tblGrid>
                <a:gridCol w="3598920"/>
                <a:gridCol w="3600360"/>
              </a:tblGrid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258920" y="765000"/>
          <a:ext cx="7416720" cy="540072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692360" y="620640"/>
          <a:ext cx="6551640" cy="6199200"/>
        </p:xfrm>
        <a:graphic>
          <a:graphicData uri="http://schemas.openxmlformats.org/drawingml/2006/table">
            <a:tbl>
              <a:tblPr/>
              <a:tblGrid>
                <a:gridCol w="3274920"/>
                <a:gridCol w="3276720"/>
              </a:tblGrid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Б;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А;2-Б;3-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;А;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,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А;Б;В;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А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Б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,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биологический, 2)личность, 3)обществ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н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ый выб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Б;А;Е;Г;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;З;Б;Ж;В;Г;Д;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;Г;Б;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,7,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Прямоуг. 1"/>
          <p:cNvSpPr/>
          <p:nvPr/>
        </p:nvSpPr>
        <p:spPr>
          <a:xfrm>
            <a:off x="1554840" y="198720"/>
            <a:ext cx="97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03280" y="50760"/>
            <a:ext cx="7632720" cy="64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9. Качества личности проявляютс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чертах человека как биологического организ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наследственной предрасположен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особенностях темперам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социально-преобразующе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A10. Верны ли следующие суждения о проявлении индивидуаль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общественного в челове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Индивидуальное и общественное в человеке – результа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иологической эволюции.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. Индивидуальное и общественное развитие человека никак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вязаны друг с другом.</a:t>
            </a: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) верно только 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) верно только 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) верны оба суж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) 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1. И человек, и животные способ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) использовать предметы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изготавливать орудия труда с помощью других орудий тру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) передавать трудовые навыки последующим поко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) осознавать собственные потреб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2. У таких видов человеческой деятельности, как общение и  игра, общим является то, что 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) допускают использование определённых правил или нор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предполагают обязательное наличие партнё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носят условны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) предписывают обязательное соблюдение риту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233360" y="189000"/>
            <a:ext cx="75614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Часть 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1. Правильный ответ может содержать следующие характерист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хож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ая кисть р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ожноорганизованный моз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идеть в трех измере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стичность потре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т быть приведены другие характери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2. Правильный ответ может содержать следующие суждения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к — существо общественное, социальное, а не только биологическо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я индивид — индивидуальность — личность представляют собой различные аспекты рассмотрения проблемы «человека», они различают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ью человек становится в процессе социализации (воспитания, обучения, общения с себе подобным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 общества — общения с себе подобными, развитие мышления, речи невозмож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т быть приведены и другие имеющие основание су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З. Правильный ответ может содержать следующие утверж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к — существо общественное и сознательно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животного обладает целеполаганием; способность человека к творчеству не является наследственной; человек способен сознательно управлять своими инстинк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аются иные формулировки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1116000" y="115920"/>
            <a:ext cx="7920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С4. В ответе должны присутствовать следующие пози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ая цепочка: интерес — цель — деятельность — жизнь; интересы лежат в основе цели, цель определяет деятельность и смысл жиз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— это то, ради чего предпринимаются действия, идеал желаемого результата, в основе нее лежат мотивы, обусловленные интерес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ивы — это побуждения к деятельности, связанные с удовлетворением потребностей — биологических, социальных, идеальны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ую роль в мотивации играют интересы — осознанные потребности, имеющие для людей существенное значение, именно они придают ценностный смысл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ются другие формулировки позиций, не искажающие смысла от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33"/>
                </a:solidFill>
                <a:latin typeface="Arial"/>
              </a:rPr>
              <a:t>С5. Содержание верных ответов на задания к текс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Могут быть указаны: создание машин, орудий, механизмов, железных дорог, заводов, нефтяных скваж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В ответе могут быть указаны и проиллюстрированы с опорой на текст такие черты человеческой деятельности, как: целесообразность, практическая полезность, наличие результата; сознательный, продуктивный, преобразующий, общественный характер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Правильный ответ должен быть утвердительным; аргумен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ом описано появление нового, более совершенного качества результатов труда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ческую деятельность  следует определить  как деятельность,  в результате которой появляется нечто новое, ранее не существовавш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По мнению автора, «все это для того и создавалось, чтобы служить людям»; конечная цель любой преобразовательной деятельности — служение людям. Например: трудовая деятельность направлена на удовлетворение фундаментальных потребностей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т быть приведены и другие прим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187280" y="189000"/>
            <a:ext cx="7848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6 . Правильный ответ предполагает следующе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ен конфликт между желаниями и возможностями; между совестью и желанием; долгом и настроением и т.д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чь идет о внутренних конфлик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анном случае речь идет о конфликте между неосознанными чувствами, интуицией, источником которых является совесть, и разумом (сознанием), подчас оценивающим наши добрые поступки как нецелесообразные, невыгодные, а подчас и глуп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ые формулировки допускаются без искажения смы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С7. При утвердительном ответе на первый вопрос следует указ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что свобода — это возможность выбора способа действия для достижения какой-либо цели, которая зависит от человека, его образования, воспитания, установок, мотивов,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Во втором ответе следует дать определения свободы и необходимости в деятельности челове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обходимость — это зависимость личности от объективных обстоятельств. Свобода человека предполагает его ответственность перед обществом за свои действия и поступки. Например, опоздание на занятия влечет за собой порицание, нарушение правил дорожного движения чревато последствиями. По мере развития свободы мера ответственности увеличивается. Сегодня происходит смещение центра тяжести ответственности с коллектива на лич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При ответе на второй вопрос одинаково важны как владение понятиями обществоведческого курса, так и их применения для анализа конкретных ситуаций (пример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3" descr="C:\Documents and Settings\Надежда\Рабочий стол\Мои рисунки\Смайлики\smile.gif"/>
          <p:cNvPicPr/>
          <p:nvPr/>
        </p:nvPicPr>
        <p:blipFill>
          <a:blip r:embed="rId1"/>
          <a:stretch/>
        </p:blipFill>
        <p:spPr>
          <a:xfrm>
            <a:off x="4334040" y="2392200"/>
            <a:ext cx="1390320" cy="1251000"/>
          </a:xfrm>
          <a:prstGeom prst="rect">
            <a:avLst/>
          </a:prstGeom>
          <a:ln w="0">
            <a:noFill/>
          </a:ln>
        </p:spPr>
      </p:pic>
      <p:sp>
        <p:nvSpPr>
          <p:cNvPr id="232" name="Управляющая кнопка: возврат 1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7493"/>
                </a:moveTo>
                <a:lnTo>
                  <a:pt x="14190" y="7493"/>
                </a:lnTo>
                <a:lnTo>
                  <a:pt x="14190" y="12828"/>
                </a:lnTo>
                <a:cubicBezTo>
                  <a:pt x="14190" y="13751"/>
                  <a:pt x="14991" y="14482"/>
                  <a:pt x="16026" y="14482"/>
                </a:cubicBezTo>
                <a:lnTo>
                  <a:pt x="17689" y="14482"/>
                </a:lnTo>
                <a:cubicBezTo>
                  <a:pt x="18725" y="14482"/>
                  <a:pt x="19525" y="13751"/>
                  <a:pt x="19525" y="12828"/>
                </a:cubicBezTo>
                <a:lnTo>
                  <a:pt x="19525" y="7493"/>
                </a:lnTo>
                <a:lnTo>
                  <a:pt x="17689" y="7493"/>
                </a:lnTo>
                <a:lnTo>
                  <a:pt x="21196" y="3985"/>
                </a:lnTo>
                <a:lnTo>
                  <a:pt x="24869" y="7493"/>
                </a:lnTo>
                <a:lnTo>
                  <a:pt x="23033" y="7493"/>
                </a:lnTo>
                <a:lnTo>
                  <a:pt x="23033" y="12828"/>
                </a:lnTo>
                <a:cubicBezTo>
                  <a:pt x="23033" y="15596"/>
                  <a:pt x="20457" y="18155"/>
                  <a:pt x="17689" y="18155"/>
                </a:cubicBezTo>
                <a:lnTo>
                  <a:pt x="16026" y="18155"/>
                </a:lnTo>
                <a:cubicBezTo>
                  <a:pt x="13259" y="18155"/>
                  <a:pt x="10682" y="15596"/>
                  <a:pt x="10682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C:\Documents and Settings\Надежда\Рабочий стол\Мои рисунки\Смайлики\nea.gif"/>
          <p:cNvPicPr/>
          <p:nvPr/>
        </p:nvPicPr>
        <p:blipFill>
          <a:blip r:embed="rId1"/>
          <a:stretch/>
        </p:blipFill>
        <p:spPr>
          <a:xfrm>
            <a:off x="3708360" y="2205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возврат 1">
            <a:hlinkClick r:id="" action="ppaction://hlinkshowjump?jump=previousslide"/>
          </p:cNvPr>
          <p:cNvSpPr/>
          <p:nvPr/>
        </p:nvSpPr>
        <p:spPr>
          <a:xfrm>
            <a:off x="806436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7493"/>
                </a:moveTo>
                <a:lnTo>
                  <a:pt x="15284" y="7493"/>
                </a:lnTo>
                <a:lnTo>
                  <a:pt x="15284" y="12828"/>
                </a:lnTo>
                <a:cubicBezTo>
                  <a:pt x="15284" y="13751"/>
                  <a:pt x="16084" y="14482"/>
                  <a:pt x="17120" y="14482"/>
                </a:cubicBezTo>
                <a:lnTo>
                  <a:pt x="18783" y="14482"/>
                </a:lnTo>
                <a:cubicBezTo>
                  <a:pt x="19818" y="14482"/>
                  <a:pt x="20619" y="13751"/>
                  <a:pt x="20619" y="12828"/>
                </a:cubicBezTo>
                <a:lnTo>
                  <a:pt x="20619" y="7493"/>
                </a:lnTo>
                <a:lnTo>
                  <a:pt x="18783" y="7493"/>
                </a:lnTo>
                <a:lnTo>
                  <a:pt x="22290" y="3985"/>
                </a:lnTo>
                <a:lnTo>
                  <a:pt x="25963" y="7493"/>
                </a:lnTo>
                <a:lnTo>
                  <a:pt x="24127" y="7493"/>
                </a:lnTo>
                <a:lnTo>
                  <a:pt x="24127" y="12828"/>
                </a:lnTo>
                <a:cubicBezTo>
                  <a:pt x="24127" y="15596"/>
                  <a:pt x="21550" y="18155"/>
                  <a:pt x="18783" y="18155"/>
                </a:cubicBezTo>
                <a:lnTo>
                  <a:pt x="17120" y="18155"/>
                </a:lnTo>
                <a:cubicBezTo>
                  <a:pt x="14352" y="18155"/>
                  <a:pt x="11776" y="15596"/>
                  <a:pt x="11776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332000" y="189000"/>
            <a:ext cx="7632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3. Кто является автором теории происхождения человека из животного мира,  постепенной эволюции от человекообразной обезьяны к собственно челове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И.И. Меч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И.П. Пав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Ч.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Ж. Кю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4. Какая из перечисленных особенностей свойственна человеку и отсутствует у животно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) обменные проце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) творческ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) работа органов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) потребность в п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5. В познавательной деятельности в отличие от трудов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) средства должны соответствовать 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цель состоит в получении достоверного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) субъектом выступает отдельная л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) результатом является новый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6. Личность формируется под воздействи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) биологической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природно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со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) без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042920" y="115920"/>
            <a:ext cx="7993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7. Ученик для учителя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объектом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конкур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субъектом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колле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8. Верны ли следующие суждения о лич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Главным в характеристике личности является участие человека в общественных отношениях и созидате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. Новорожденный человек является лич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) верн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) верн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3) верно А и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) оба суждения не 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19. К агентам вторичной социализации не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) радиожурна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двоюродный б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) преподаватель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) руководитель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0. Верны ли сужд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Официальные межличностные отно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Строятся в зависимости от индивидуальных особенностей ли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Б. Стандартизированы и обезлич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) 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верны оба 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) 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87280" y="18900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1. Закончите утверждение: Человек — существо, воплощающее высшую ступень развития жизни, скорее всего, основывается на способност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) вместе с другими людьми организовываться в сплоченные группы для отстаивания своих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) давать отпор любым агрессивным выпадам против н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приспосабливаться к условиям окружающей среды, не всегда для него благоприят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к созидательно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ворческой деятельности на основе развитого, совершенствующегося сознания (мышления, воображения, интуиции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2. К экзистенциальным относятся потребности 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) комфо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)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) позн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4) самоув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3. Верны ли следующие суждения о самосознан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Человек может определить, каков он, сравнивая себя с друг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Человек может определить, каков он, не интересуясь мнением других людей о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) 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2) 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) верны оба 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) 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116000" y="115920"/>
            <a:ext cx="7920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4. Верны ли следующие суждения о челове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Человек остается частью природно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Человек развивается в процессе социальной и культурной эволю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ы оба 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5. Верны ли следующие суждения о выдающихся способностях челове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Гениальным человека делает при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Умственная одаренность — качество, обусловленное биологической природой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ба суждения 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оба суждения не 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6. К практической деятельности относ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производство материальных бл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ознание законов развития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формирование религиозных представлений о ми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очинение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7. Деятельность в отличие от об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является потребностью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может доставлять человеку удоволь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редполагает наличие ц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непосредственно преобразует предмет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258920" y="189000"/>
            <a:ext cx="7777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8. Верны ли следующие утверждения о свободе лич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. Свобода человека предполагает ответственность человека перед обществом за свои действия и посту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Б. Свобода — это возможность выбора способа действия для достижения какой-либо ц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о только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) верно только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ба суждения 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) оба суждения невер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29. Из приведенного ниже списка выберите правильный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Человек как отдельный представитель человеческой общности, носитель индивидуально свободных черт назы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еяте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индиви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иде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ич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Arial"/>
              </a:rPr>
              <a:t>А30. «Вторая природа», или «неорганическое тело» человека — э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Мир социально-искусственных предметов, созданных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р сверхъестественного, таинственного и загадоч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Сфера истинного и настоящего в отличие от повседневной, скучной и однообразной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Результат преодоления или отрицания первой — естественно-биологической природы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C:\Documents and Settings\Надежда\Рабочий стол\рисунки\94.png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264520" y="6019920"/>
            <a:ext cx="855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3:47:20Z</dcterms:created>
  <dc:creator>SamLab.ws</dc:creator>
  <dc:description/>
  <dc:language>en-US</dc:language>
  <cp:lastModifiedBy>SamLab.ws</cp:lastModifiedBy>
  <dcterms:modified xsi:type="dcterms:W3CDTF">2010-04-25T04:28:39Z</dcterms:modified>
  <cp:revision>39</cp:revision>
  <dc:subject/>
  <dc:title>Презентация PowerPoint</dc:title>
</cp:coreProperties>
</file>